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CF4-8974-4057-80A2-D0697127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92C-DD02-49BD-A0E1-098BD7EB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117-AF83-4C29-90EC-5C75E8C8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F8E-DEE1-4783-AF0C-4CAF279D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700-EF81-4DEF-8AED-5F48453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B41-DE4D-4E02-9691-EABF0178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310-BCAD-4463-AB35-EFBDD7C3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082-EDC9-45F4-866C-9D7F5AD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182-C27B-418B-B95D-0635DC2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0B5-C5DD-4DC3-A87B-0811F54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F05-983A-4602-8AD8-5EE99B9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592-9C9F-4E01-A5EB-73092FF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2116-E8F9-4007-A281-099B9C8A0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Road to Financial Matur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essons in 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1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3-6 (Into to personal finan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2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7-10 (saving &amp; budge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3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1-14 (banking &amp; consumeris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4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5-18 (credit &amp; deb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5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ge (student loans &amp; ren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6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ulthood (investing &amp; retiremen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7: Road to Financial Maturity, Gi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ASD</cp:lastModifiedBy>
  <dcterms:modified xsi:type="dcterms:W3CDTF">2011-06-08T21:12:53Z</dcterms:modified>
  <cp:revision>4</cp:revision>
  <dc:subject/>
  <dc:title>Junior Class Advisory</dc:title>
</cp:coreProperties>
</file>